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png" ContentType="image/png"/>
  <Override PartName="/ppt/media/image7.jpeg" ContentType="image/jpeg"/>
  <Override PartName="/ppt/media/image20.png" ContentType="image/png"/>
  <Override PartName="/ppt/media/image12.wmf" ContentType="image/x-wmf"/>
  <Override PartName="/ppt/media/image6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3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26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A31ABE76-B4B6-469F-9BC4-0DF4C6FD39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895320" y="752040"/>
            <a:ext cx="4950000" cy="37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912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980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912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980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6448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TTÜ 2007       T.Tammet     IT sissejuhatus loeng 1      lk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F27FB9C9-D5B2-4C71-BA91-E9951A30A597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914400" y="299880"/>
            <a:ext cx="7767720" cy="309600"/>
            <a:chOff x="914400" y="299880"/>
            <a:chExt cx="7767720" cy="309600"/>
          </a:xfrm>
        </p:grpSpPr>
        <p:sp>
          <p:nvSpPr>
            <p:cNvPr id="53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868032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goritm ja program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goritm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täpne samm-sammuline, kuid mitte tingimata formaalne juhend millegi tegemiseks. Näite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iduretsept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uhend ruutvõrrandi lahendamisek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goritmiline probleem -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bleem, mille lahendus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ab kirja panna täidetavate juhendite loetelun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m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formaalses, üheselt mõistetavas keeles kirja pandud algoritm. Arvutid suudavad täita ainult programm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14400" y="299880"/>
            <a:ext cx="7767720" cy="309600"/>
            <a:chOff x="914400" y="299880"/>
            <a:chExt cx="7767720" cy="309600"/>
          </a:xfrm>
        </p:grpSpPr>
        <p:sp>
          <p:nvSpPr>
            <p:cNvPr id="100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868032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aloog- ja digitaal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naloogsüstee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dmeid salvestatakse (peegeldatakse) proportsionaalsel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: termomeeter, vinüülplaat, foto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gitaalsüstee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pidevad) andmed lõhutakse üksikuteks tükkideks, mis salvestatakse erald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: CD, arvutiprogramm, kiri tähtede ja bittiden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Ühelt teisele: digital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14400" y="299880"/>
            <a:ext cx="7767720" cy="309600"/>
            <a:chOff x="914400" y="299880"/>
            <a:chExt cx="7767720" cy="309600"/>
          </a:xfrm>
        </p:grpSpPr>
        <p:sp>
          <p:nvSpPr>
            <p:cNvPr id="105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868032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inüülplaat: info analoogkuju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914400" y="299880"/>
            <a:ext cx="7767720" cy="309600"/>
            <a:chOff x="914400" y="299880"/>
            <a:chExt cx="7767720" cy="309600"/>
          </a:xfrm>
        </p:grpSpPr>
        <p:sp>
          <p:nvSpPr>
            <p:cNvPr id="110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868032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59280" y="3060720"/>
            <a:ext cx="5018040" cy="3213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39640" y="720720"/>
            <a:ext cx="4478400" cy="287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gitalis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14400" y="299880"/>
            <a:ext cx="7767720" cy="309600"/>
            <a:chOff x="914400" y="299880"/>
            <a:chExt cx="7767720" cy="309600"/>
          </a:xfrm>
        </p:grpSpPr>
        <p:sp>
          <p:nvSpPr>
            <p:cNvPr id="117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868032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79640" y="1079640"/>
            <a:ext cx="7200720" cy="504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gitaalse info salvest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914400" y="299880"/>
            <a:ext cx="7767720" cy="309600"/>
            <a:chOff x="914400" y="299880"/>
            <a:chExt cx="7767720" cy="309600"/>
          </a:xfrm>
        </p:grpSpPr>
        <p:sp>
          <p:nvSpPr>
            <p:cNvPr id="123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868032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3680" y="720720"/>
            <a:ext cx="3676680" cy="3586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05000" y="2700360"/>
            <a:ext cx="5715000" cy="354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vuti ehi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õhiprotsesso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- teeb pea kogu töö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õhimälu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- hoiab aktiivses kasutuses olevaid programme ja andme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älismälu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- pikaajaliseks säilitamiseks (kõvaketas, flopid jn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älisseadme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- monitor, klaviatuur j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914400" y="299880"/>
            <a:ext cx="7767720" cy="309600"/>
            <a:chOff x="914400" y="299880"/>
            <a:chExt cx="7767720" cy="309600"/>
          </a:xfrm>
        </p:grpSpPr>
        <p:sp>
          <p:nvSpPr>
            <p:cNvPr id="130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868032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64000" y="2895480"/>
            <a:ext cx="2865600" cy="2997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990720" y="4105440"/>
            <a:ext cx="2514600" cy="1809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õhiprotsessor (CPU) ja mäl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84872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36" name=""/>
          <p:cNvGrpSpPr/>
          <p:nvPr/>
        </p:nvGrpSpPr>
        <p:grpSpPr>
          <a:xfrm>
            <a:off x="914400" y="299880"/>
            <a:ext cx="7767720" cy="309600"/>
            <a:chOff x="914400" y="299880"/>
            <a:chExt cx="7767720" cy="309600"/>
          </a:xfrm>
        </p:grpSpPr>
        <p:sp>
          <p:nvSpPr>
            <p:cNvPr id="137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868032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PU ja muud seadm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914400" y="299880"/>
            <a:ext cx="7767720" cy="309600"/>
            <a:chOff x="914400" y="299880"/>
            <a:chExt cx="7767720" cy="309600"/>
          </a:xfrm>
        </p:grpSpPr>
        <p:sp>
          <p:nvSpPr>
            <p:cNvPr id="141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868032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848720" cy="3733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(and Isn’t) a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omput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device which takes data in one form, uses it, and produces a different form of information which is related to (but not the same as) the original dat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Many Kinds of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e three major comparisons of computers ar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ctronic computers versus Mechanical computer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eneral-purpose versus Special-purpose computer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igital versus Analog computer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sis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6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evaade kursuse eesmärkide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imumisajad, lekto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irjandus, lisamaterjalid, viit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kav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mõist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emad ja eesmärg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rinevad koolkonn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14400" y="299880"/>
            <a:ext cx="7767720" cy="309600"/>
            <a:chOff x="914400" y="299880"/>
            <a:chExt cx="7767720" cy="309600"/>
          </a:xfrm>
        </p:grpSpPr>
        <p:sp>
          <p:nvSpPr>
            <p:cNvPr id="58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868032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Many Kinds of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ctronic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nstructed from transistors that use electricity to function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echanical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o not use electricity to function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nstructed of a combination of gears, levers and spring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Many Kinds of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General-purpose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ere not manufactured to do any one thing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angeable to do any task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pecial-purpose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nufactured to do a predetermined task or set of task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Many Kinds of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gital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e that functions in discretely varying quantitie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duces or gives results that are also discretely varying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nalog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e that functions in continuously varying quantitie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duces or gives results that are also continuously varying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038480" y="3124080"/>
            <a:ext cx="4800600" cy="682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467480" y="48006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General-Purpose Digital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e General-Purpose Digital Comput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ccepts information of many kind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anges it in a way that is controlled by human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esents results in a way usable by human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mingtoni revolv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557360" y="1797120"/>
            <a:ext cx="6132600" cy="3316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mingtoni kirjutus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968480" y="1346040"/>
            <a:ext cx="5308560" cy="421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Zuse mehhaaniline programmeeritav arvu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33360" y="1440000"/>
            <a:ext cx="7407360" cy="4757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pist ja traadist mitteprogr. arvu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38440" y="1878120"/>
            <a:ext cx="5769000" cy="3152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simene mikroprose: intel 4004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700360" y="1079640"/>
            <a:ext cx="3452760" cy="521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uring machine: lihtne teoreetiline 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an Turingi idee, milline võiks olla lihtne universaalne arvuti: suudaks arvutada/järeldada kõike!!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uringi tees: kõike, mida üldse saab mingi masinaga arvutada/järeldada, saab ka Turingi masinaga arvutad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eesmärk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da kokkusurutud ülevaade infotehnoloogiast tervikun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da ajalooline ülevaade IT teooria, tehnoloogia ja äri arengu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utvustada edaspidiseid teemasid/kursusi stuudiumi vältel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B! Kursus EI ÕPETA elementaarset arvutikasutamist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914400" y="299880"/>
            <a:ext cx="7767720" cy="309600"/>
            <a:chOff x="914400" y="299880"/>
            <a:chExt cx="7767720" cy="309600"/>
          </a:xfrm>
        </p:grpSpPr>
        <p:sp>
          <p:nvSpPr>
            <p:cNvPr id="63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868032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20720" y="539640"/>
            <a:ext cx="7920000" cy="5761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9640" y="53964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elgub, et kõiki täpselt formuleeritud, selgeid, algoritmilisi probleeme ei saa garanteeritult algoritmiga lahendad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is alternatiivid sel juhul on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ternatiiv ü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pime sellega, et mõnes olukorras ei õnnestu vastust leid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ternatiiv ka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lime vahel juhuslikult, ehk: teeme vahel vigu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fektne arvutusmasi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160720" y="1619280"/>
            <a:ext cx="4319280" cy="4578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e five types of information that are the only types the computer commonly manipulate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isual (pictures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umeric (numbers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aracter (text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udio (sound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structions (programs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efore the computer can use any type of information, it must be stored in the computer’s memory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blem: How is information stored within the computer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formation is stored in numerical form within the computer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dern computers work in a system of numbers called binary number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inary number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milar to familiar decimal system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ses only two symbols: 0 and 1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choice of using binary numbers is dictated by cost and reliability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inary circuit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ctronic circuits are cheapest and most reliable if they only assume two states or condition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se binary circuits have only two states, ON or OFF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51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inary numbers use only two symbols: 0 and 1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w can more than two possibilities be represented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three light system can have up to eight combinations. Each combination can represent a code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835520" y="1898640"/>
            <a:ext cx="3851280" cy="389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kursus annab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õimaldab esimese semestri jooksul enamvähem aru saad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on infotehnoloogia, mis on meie erial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llest edaspidistes IT kursustes juttu tule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erinevad IT teemad omavahel seotud on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teema on milleks oluline: praktikas ja teooria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IT on siiamaani arenenud ja mida võiks lähiaastatel oodat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914400" y="299880"/>
            <a:ext cx="7767720" cy="309600"/>
            <a:chOff x="914400" y="299880"/>
            <a:chExt cx="7767720" cy="309600"/>
          </a:xfrm>
        </p:grpSpPr>
        <p:sp>
          <p:nvSpPr>
            <p:cNvPr id="68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868032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inary equivalents of the numerals 0 to 7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498760" y="2556000"/>
            <a:ext cx="1554120" cy="3386520"/>
            <a:chOff x="2498760" y="2556000"/>
            <a:chExt cx="1554120" cy="3386520"/>
          </a:xfrm>
        </p:grpSpPr>
        <p:sp>
          <p:nvSpPr>
            <p:cNvPr id="201" name=""/>
            <p:cNvSpPr/>
            <p:nvPr/>
          </p:nvSpPr>
          <p:spPr>
            <a:xfrm>
              <a:off x="2498760" y="2556000"/>
              <a:ext cx="1554120" cy="3376440"/>
            </a:xfrm>
            <a:custGeom>
              <a:avLst/>
              <a:gdLst>
                <a:gd name="textAreaLeft" fmla="*/ 360 w 1554120"/>
                <a:gd name="textAreaRight" fmla="*/ 1553760 w 1554120"/>
                <a:gd name="textAreaTop" fmla="*/ 360 h 3376440"/>
                <a:gd name="textAreaBottom" fmla="*/ 3376080 h 3376440"/>
              </a:gdLst>
              <a:ahLst/>
              <a:rect l="textAreaLeft" t="textAreaTop" r="textAreaRight" b="textAreaBottom"/>
              <a:pathLst>
                <a:path w="21600" h="46922">
                  <a:moveTo>
                    <a:pt x="22" y="0"/>
                  </a:moveTo>
                  <a:arcTo wR="22" hR="22" stAng="16200000" swAng="-5400000"/>
                  <a:lnTo>
                    <a:pt x="0" y="46900"/>
                  </a:lnTo>
                  <a:arcTo wR="22" hR="22" stAng="10800000" swAng="-5400000"/>
                  <a:lnTo>
                    <a:pt x="21578" y="46922"/>
                  </a:lnTo>
                  <a:arcTo wR="22" hR="22" stAng="5400000" swAng="-5400000"/>
                  <a:lnTo>
                    <a:pt x="21600" y="22"/>
                  </a:lnTo>
                  <a:arcTo wR="22" hR="2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2498760" y="2556000"/>
              <a:ext cx="1554120" cy="3386520"/>
              <a:chOff x="2498760" y="2556000"/>
              <a:chExt cx="1554120" cy="3386520"/>
            </a:xfrm>
          </p:grpSpPr>
          <p:sp>
            <p:nvSpPr>
              <p:cNvPr id="203" name=""/>
              <p:cNvSpPr/>
              <p:nvPr/>
            </p:nvSpPr>
            <p:spPr>
              <a:xfrm>
                <a:off x="2498760" y="2556000"/>
                <a:ext cx="1554120" cy="3376440"/>
              </a:xfrm>
              <a:custGeom>
                <a:avLst/>
                <a:gdLst>
                  <a:gd name="textAreaLeft" fmla="*/ 360 w 1554120"/>
                  <a:gd name="textAreaRight" fmla="*/ 1553760 w 1554120"/>
                  <a:gd name="textAreaTop" fmla="*/ 360 h 3376440"/>
                  <a:gd name="textAreaBottom" fmla="*/ 3376080 h 3376440"/>
                </a:gdLst>
                <a:ahLst/>
                <a:rect l="textAreaLeft" t="textAreaTop" r="textAreaRight" b="textAreaBottom"/>
                <a:pathLst>
                  <a:path w="21600" h="46922">
                    <a:moveTo>
                      <a:pt x="22" y="0"/>
                    </a:moveTo>
                    <a:arcTo wR="22" hR="22" stAng="16200000" swAng="-5400000"/>
                    <a:lnTo>
                      <a:pt x="0" y="46900"/>
                    </a:lnTo>
                    <a:arcTo wR="22" hR="22" stAng="10800000" swAng="-5400000"/>
                    <a:lnTo>
                      <a:pt x="21578" y="46922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498760" y="2556000"/>
                <a:ext cx="1553040" cy="3386520"/>
              </a:xfrm>
              <a:custGeom>
                <a:avLst/>
                <a:gdLst>
                  <a:gd name="textAreaLeft" fmla="*/ 360 w 1553040"/>
                  <a:gd name="textAreaRight" fmla="*/ 1552680 w 1553040"/>
                  <a:gd name="textAreaTop" fmla="*/ 360 h 3386520"/>
                  <a:gd name="textAreaBottom" fmla="*/ 3386160 h 3386520"/>
                </a:gdLst>
                <a:ahLst/>
                <a:rect l="textAreaLeft" t="textAreaTop" r="textAreaRight" b="textAreaBottom"/>
                <a:pathLst>
                  <a:path w="21600" h="47095">
                    <a:moveTo>
                      <a:pt x="22" y="0"/>
                    </a:moveTo>
                    <a:arcTo wR="22" hR="22" stAng="16200000" swAng="-5400000"/>
                    <a:lnTo>
                      <a:pt x="0" y="47073"/>
                    </a:lnTo>
                    <a:arcTo wR="22" hR="22" stAng="10800000" swAng="-5400000"/>
                    <a:lnTo>
                      <a:pt x="21578" y="47095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5" name=""/>
          <p:cNvGrpSpPr/>
          <p:nvPr/>
        </p:nvGrpSpPr>
        <p:grpSpPr>
          <a:xfrm>
            <a:off x="4722840" y="3809880"/>
            <a:ext cx="2208240" cy="460440"/>
            <a:chOff x="4722840" y="3809880"/>
            <a:chExt cx="2208240" cy="460440"/>
          </a:xfrm>
        </p:grpSpPr>
        <p:sp>
          <p:nvSpPr>
            <p:cNvPr id="206" name=""/>
            <p:cNvSpPr/>
            <p:nvPr/>
          </p:nvSpPr>
          <p:spPr>
            <a:xfrm>
              <a:off x="4724280" y="3809880"/>
              <a:ext cx="2203560" cy="4557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4722840" y="3809880"/>
              <a:ext cx="2208240" cy="460440"/>
              <a:chOff x="4722840" y="3809880"/>
              <a:chExt cx="2208240" cy="460440"/>
            </a:xfrm>
          </p:grpSpPr>
          <p:sp>
            <p:nvSpPr>
              <p:cNvPr id="208" name=""/>
              <p:cNvSpPr/>
              <p:nvPr/>
            </p:nvSpPr>
            <p:spPr>
              <a:xfrm>
                <a:off x="4724280" y="3809880"/>
                <a:ext cx="2203560" cy="45576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722840" y="3809880"/>
                <a:ext cx="220824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inary numeral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0" name=""/>
          <p:cNvSpPr/>
          <p:nvPr/>
        </p:nvSpPr>
        <p:spPr>
          <a:xfrm>
            <a:off x="4114800" y="2666880"/>
            <a:ext cx="380880" cy="2820960"/>
          </a:xfrm>
          <a:custGeom>
            <a:avLst/>
            <a:gdLst/>
            <a:ahLst/>
            <a:rect l="l" t="t" r="r" b="b"/>
            <a:pathLst>
              <a:path w="1059" h="7836">
                <a:moveTo>
                  <a:pt x="0" y="0"/>
                </a:moveTo>
                <a:cubicBezTo>
                  <a:pt x="263" y="0"/>
                  <a:pt x="528" y="326"/>
                  <a:pt x="528" y="652"/>
                </a:cubicBezTo>
                <a:lnTo>
                  <a:pt x="528" y="3264"/>
                </a:lnTo>
                <a:cubicBezTo>
                  <a:pt x="528" y="3591"/>
                  <a:pt x="793" y="3917"/>
                  <a:pt x="1058" y="3917"/>
                </a:cubicBezTo>
                <a:cubicBezTo>
                  <a:pt x="793" y="3917"/>
                  <a:pt x="528" y="4243"/>
                  <a:pt x="528" y="4570"/>
                </a:cubicBezTo>
                <a:lnTo>
                  <a:pt x="528" y="7182"/>
                </a:lnTo>
                <a:cubicBezTo>
                  <a:pt x="528" y="7508"/>
                  <a:pt x="263" y="7835"/>
                  <a:pt x="0" y="78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cimal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ystem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990720" y="3352680"/>
            <a:ext cx="7681680" cy="1191960"/>
            <a:chOff x="990720" y="3352680"/>
            <a:chExt cx="7681680" cy="1191960"/>
          </a:xfrm>
        </p:grpSpPr>
        <p:sp>
          <p:nvSpPr>
            <p:cNvPr id="214" name=""/>
            <p:cNvSpPr/>
            <p:nvPr/>
          </p:nvSpPr>
          <p:spPr>
            <a:xfrm>
              <a:off x="990720" y="3352680"/>
              <a:ext cx="7681680" cy="1185840"/>
            </a:xfrm>
            <a:prstGeom prst="roundRect">
              <a:avLst>
                <a:gd name="adj" fmla="val 13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990720" y="3352680"/>
              <a:ext cx="7681680" cy="1191960"/>
              <a:chOff x="990720" y="3352680"/>
              <a:chExt cx="7681680" cy="1191960"/>
            </a:xfrm>
          </p:grpSpPr>
          <p:sp>
            <p:nvSpPr>
              <p:cNvPr id="216" name=""/>
              <p:cNvSpPr/>
              <p:nvPr/>
            </p:nvSpPr>
            <p:spPr>
              <a:xfrm>
                <a:off x="990720" y="3352680"/>
                <a:ext cx="7681680" cy="118584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991800" y="3352680"/>
                <a:ext cx="7639920" cy="119196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31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3      1       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3x 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1x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2x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3x100) + (1x10) + (2x1)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‏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300     +    10    +     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8" name=""/>
          <p:cNvGrpSpPr/>
          <p:nvPr/>
        </p:nvGrpSpPr>
        <p:grpSpPr>
          <a:xfrm>
            <a:off x="2666880" y="2514600"/>
            <a:ext cx="1911600" cy="460440"/>
            <a:chOff x="2666880" y="2514600"/>
            <a:chExt cx="1911600" cy="460440"/>
          </a:xfrm>
        </p:grpSpPr>
        <p:sp>
          <p:nvSpPr>
            <p:cNvPr id="219" name=""/>
            <p:cNvSpPr/>
            <p:nvPr/>
          </p:nvSpPr>
          <p:spPr>
            <a:xfrm>
              <a:off x="2666880" y="2514600"/>
              <a:ext cx="1911600" cy="4557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2666880" y="2514600"/>
              <a:ext cx="1911600" cy="460440"/>
              <a:chOff x="2666880" y="2514600"/>
              <a:chExt cx="1911600" cy="460440"/>
            </a:xfrm>
          </p:grpSpPr>
          <p:sp>
            <p:nvSpPr>
              <p:cNvPr id="221" name=""/>
              <p:cNvSpPr/>
              <p:nvPr/>
            </p:nvSpPr>
            <p:spPr>
              <a:xfrm>
                <a:off x="2666880" y="2514600"/>
                <a:ext cx="1911600" cy="45576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666880" y="2514600"/>
                <a:ext cx="190980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s   10s   1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3" name=""/>
          <p:cNvSpPr/>
          <p:nvPr/>
        </p:nvSpPr>
        <p:spPr>
          <a:xfrm>
            <a:off x="304812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434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819520" y="5105520"/>
            <a:ext cx="3200400" cy="609480"/>
          </a:xfrm>
          <a:prstGeom prst="roundRect">
            <a:avLst>
              <a:gd name="adj" fmla="val 259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inary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system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990720" y="3352680"/>
            <a:ext cx="7224480" cy="2389320"/>
            <a:chOff x="990720" y="3352680"/>
            <a:chExt cx="7224480" cy="2389320"/>
          </a:xfrm>
        </p:grpSpPr>
        <p:sp>
          <p:nvSpPr>
            <p:cNvPr id="230" name=""/>
            <p:cNvSpPr/>
            <p:nvPr/>
          </p:nvSpPr>
          <p:spPr>
            <a:xfrm>
              <a:off x="990720" y="3352680"/>
              <a:ext cx="7224480" cy="2281320"/>
            </a:xfrm>
            <a:prstGeom prst="roundRect">
              <a:avLst>
                <a:gd name="adj" fmla="val 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990720" y="3352680"/>
              <a:ext cx="7224480" cy="2389320"/>
              <a:chOff x="990720" y="3352680"/>
              <a:chExt cx="7224480" cy="2389320"/>
            </a:xfrm>
          </p:grpSpPr>
          <p:sp>
            <p:nvSpPr>
              <p:cNvPr id="232" name=""/>
              <p:cNvSpPr/>
              <p:nvPr/>
            </p:nvSpPr>
            <p:spPr>
              <a:xfrm>
                <a:off x="990720" y="3352680"/>
                <a:ext cx="7224480" cy="228132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992160" y="3352680"/>
                <a:ext cx="7182000" cy="238932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1      0       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1x 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0x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1x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(1x4) +   (0x2) + (1x1)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‏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   4     +    0    +     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   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 5 in decim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4" name=""/>
          <p:cNvGrpSpPr/>
          <p:nvPr/>
        </p:nvGrpSpPr>
        <p:grpSpPr>
          <a:xfrm>
            <a:off x="2666880" y="2514600"/>
            <a:ext cx="1835280" cy="460440"/>
            <a:chOff x="2666880" y="2514600"/>
            <a:chExt cx="1835280" cy="460440"/>
          </a:xfrm>
        </p:grpSpPr>
        <p:sp>
          <p:nvSpPr>
            <p:cNvPr id="235" name=""/>
            <p:cNvSpPr/>
            <p:nvPr/>
          </p:nvSpPr>
          <p:spPr>
            <a:xfrm>
              <a:off x="2666880" y="2514600"/>
              <a:ext cx="1835280" cy="4557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2666880" y="2514600"/>
              <a:ext cx="1835280" cy="460440"/>
              <a:chOff x="2666880" y="2514600"/>
              <a:chExt cx="1835280" cy="460440"/>
            </a:xfrm>
          </p:grpSpPr>
          <p:sp>
            <p:nvSpPr>
              <p:cNvPr id="237" name=""/>
              <p:cNvSpPr/>
              <p:nvPr/>
            </p:nvSpPr>
            <p:spPr>
              <a:xfrm>
                <a:off x="2666880" y="2514600"/>
                <a:ext cx="1835280" cy="45576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666880" y="2514600"/>
                <a:ext cx="183348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4s      2s     1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9" name=""/>
          <p:cNvSpPr/>
          <p:nvPr/>
        </p:nvSpPr>
        <p:spPr>
          <a:xfrm>
            <a:off x="304812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576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434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ranslate 10011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Bitstream Vera Sans"/>
              </a:rPr>
              <a:t>binary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into a decimal numb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2438280"/>
            <a:ext cx="2130480" cy="1009080"/>
            <a:chOff x="838080" y="2438280"/>
            <a:chExt cx="2130480" cy="1009080"/>
          </a:xfrm>
        </p:grpSpPr>
        <p:sp>
          <p:nvSpPr>
            <p:cNvPr id="245" name=""/>
            <p:cNvSpPr/>
            <p:nvPr/>
          </p:nvSpPr>
          <p:spPr>
            <a:xfrm>
              <a:off x="838080" y="2438280"/>
              <a:ext cx="2125800" cy="100512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838080" y="2438280"/>
              <a:ext cx="2130480" cy="1009080"/>
              <a:chOff x="838080" y="2438280"/>
              <a:chExt cx="2130480" cy="1009080"/>
            </a:xfrm>
          </p:grpSpPr>
          <p:sp>
            <p:nvSpPr>
              <p:cNvPr id="247" name=""/>
              <p:cNvSpPr/>
              <p:nvPr/>
            </p:nvSpPr>
            <p:spPr>
              <a:xfrm>
                <a:off x="838080" y="2438280"/>
                <a:ext cx="2125800" cy="100512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38080" y="2438280"/>
                <a:ext cx="2130480" cy="10090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lace the base tw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numerals under th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lace values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9" name=""/>
          <p:cNvGrpSpPr/>
          <p:nvPr/>
        </p:nvGrpSpPr>
        <p:grpSpPr>
          <a:xfrm>
            <a:off x="762120" y="3511440"/>
            <a:ext cx="2227320" cy="997200"/>
            <a:chOff x="762120" y="3511440"/>
            <a:chExt cx="2227320" cy="997200"/>
          </a:xfrm>
        </p:grpSpPr>
        <p:sp>
          <p:nvSpPr>
            <p:cNvPr id="250" name=""/>
            <p:cNvSpPr/>
            <p:nvPr/>
          </p:nvSpPr>
          <p:spPr>
            <a:xfrm>
              <a:off x="762120" y="3511440"/>
              <a:ext cx="2227320" cy="99720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762120" y="3511440"/>
              <a:ext cx="2227320" cy="997200"/>
              <a:chOff x="762120" y="3511440"/>
              <a:chExt cx="2227320" cy="997200"/>
            </a:xfrm>
          </p:grpSpPr>
          <p:sp>
            <p:nvSpPr>
              <p:cNvPr id="252" name=""/>
              <p:cNvSpPr/>
              <p:nvPr/>
            </p:nvSpPr>
            <p:spPr>
              <a:xfrm>
                <a:off x="762120" y="3511440"/>
                <a:ext cx="2227320" cy="99720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62120" y="3511440"/>
                <a:ext cx="2213280" cy="933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8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4" name=""/>
          <p:cNvSpPr/>
          <p:nvPr/>
        </p:nvSpPr>
        <p:spPr>
          <a:xfrm>
            <a:off x="762120" y="3505320"/>
            <a:ext cx="2209680" cy="990360"/>
          </a:xfrm>
          <a:prstGeom prst="roundRect">
            <a:avLst>
              <a:gd name="adj" fmla="val 15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388620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419112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430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002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574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733920" y="2438280"/>
            <a:ext cx="2225880" cy="734760"/>
            <a:chOff x="3733920" y="2438280"/>
            <a:chExt cx="2225880" cy="734760"/>
          </a:xfrm>
        </p:grpSpPr>
        <p:sp>
          <p:nvSpPr>
            <p:cNvPr id="262" name=""/>
            <p:cNvSpPr/>
            <p:nvPr/>
          </p:nvSpPr>
          <p:spPr>
            <a:xfrm>
              <a:off x="3733920" y="2438280"/>
              <a:ext cx="2214360" cy="73044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3733920" y="2438280"/>
              <a:ext cx="2225880" cy="734760"/>
              <a:chOff x="3733920" y="2438280"/>
              <a:chExt cx="2225880" cy="734760"/>
            </a:xfrm>
          </p:grpSpPr>
          <p:sp>
            <p:nvSpPr>
              <p:cNvPr id="264" name=""/>
              <p:cNvSpPr/>
              <p:nvPr/>
            </p:nvSpPr>
            <p:spPr>
              <a:xfrm>
                <a:off x="3733920" y="2438280"/>
                <a:ext cx="2214360" cy="730440"/>
              </a:xfrm>
              <a:prstGeom prst="roundRect">
                <a:avLst>
                  <a:gd name="adj" fmla="val 21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736440" y="2438280"/>
                <a:ext cx="2223360" cy="734760"/>
              </a:xfrm>
              <a:prstGeom prst="roundRect">
                <a:avLst>
                  <a:gd name="adj" fmla="val 21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Multiply throug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by the place values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6" name=""/>
          <p:cNvGrpSpPr/>
          <p:nvPr/>
        </p:nvGrpSpPr>
        <p:grpSpPr>
          <a:xfrm>
            <a:off x="3657600" y="3359160"/>
            <a:ext cx="2227320" cy="996840"/>
            <a:chOff x="3657600" y="3359160"/>
            <a:chExt cx="2227320" cy="996840"/>
          </a:xfrm>
        </p:grpSpPr>
        <p:sp>
          <p:nvSpPr>
            <p:cNvPr id="267" name=""/>
            <p:cNvSpPr/>
            <p:nvPr/>
          </p:nvSpPr>
          <p:spPr>
            <a:xfrm>
              <a:off x="3657600" y="3359160"/>
              <a:ext cx="2227320" cy="99684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3657600" y="3359160"/>
              <a:ext cx="2227320" cy="996840"/>
              <a:chOff x="3657600" y="3359160"/>
              <a:chExt cx="2227320" cy="996840"/>
            </a:xfrm>
          </p:grpSpPr>
          <p:sp>
            <p:nvSpPr>
              <p:cNvPr id="269" name=""/>
              <p:cNvSpPr/>
              <p:nvPr/>
            </p:nvSpPr>
            <p:spPr>
              <a:xfrm>
                <a:off x="3657600" y="3359160"/>
                <a:ext cx="2227320" cy="996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657600" y="3359160"/>
                <a:ext cx="2213280" cy="933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8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1" name=""/>
          <p:cNvSpPr/>
          <p:nvPr/>
        </p:nvSpPr>
        <p:spPr>
          <a:xfrm>
            <a:off x="3657600" y="3352680"/>
            <a:ext cx="2209680" cy="990720"/>
          </a:xfrm>
          <a:prstGeom prst="roundRect">
            <a:avLst>
              <a:gd name="adj" fmla="val 15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657600" y="373392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4038480"/>
            <a:ext cx="22096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384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956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100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4343400"/>
            <a:ext cx="6858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5880" y="487692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52880" y="43434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95880" y="5181480"/>
            <a:ext cx="3049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5680" y="4343400"/>
            <a:ext cx="16765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72200" y="556272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038480" y="4343400"/>
            <a:ext cx="213372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172200" y="5867280"/>
            <a:ext cx="2286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657600" y="4343400"/>
            <a:ext cx="251460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72200" y="624852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476040" y="2438280"/>
            <a:ext cx="1955160" cy="1009080"/>
            <a:chOff x="6476040" y="2438280"/>
            <a:chExt cx="1955160" cy="1009080"/>
          </a:xfrm>
        </p:grpSpPr>
        <p:sp>
          <p:nvSpPr>
            <p:cNvPr id="289" name=""/>
            <p:cNvSpPr/>
            <p:nvPr/>
          </p:nvSpPr>
          <p:spPr>
            <a:xfrm>
              <a:off x="6477120" y="2438280"/>
              <a:ext cx="1947600" cy="100512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6476040" y="2438280"/>
              <a:ext cx="1955160" cy="1009080"/>
              <a:chOff x="6476040" y="2438280"/>
              <a:chExt cx="1955160" cy="1009080"/>
            </a:xfrm>
          </p:grpSpPr>
          <p:sp>
            <p:nvSpPr>
              <p:cNvPr id="291" name=""/>
              <p:cNvSpPr/>
              <p:nvPr/>
            </p:nvSpPr>
            <p:spPr>
              <a:xfrm>
                <a:off x="6477120" y="2438280"/>
                <a:ext cx="1947600" cy="100512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476040" y="2438280"/>
                <a:ext cx="1955160" cy="10090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3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Add up th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column for th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decimal number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5665680" y="4310640"/>
            <a:ext cx="593280" cy="552600"/>
            <a:chOff x="5665680" y="4310640"/>
            <a:chExt cx="593280" cy="552600"/>
          </a:xfrm>
        </p:grpSpPr>
        <p:sp>
          <p:nvSpPr>
            <p:cNvPr id="294" name=""/>
            <p:cNvSpPr/>
            <p:nvPr/>
          </p:nvSpPr>
          <p:spPr>
            <a:xfrm rot="1980000">
              <a:off x="5719320" y="4416120"/>
              <a:ext cx="487440" cy="33480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5665680" y="4312080"/>
              <a:ext cx="593280" cy="551160"/>
              <a:chOff x="5665680" y="4312080"/>
              <a:chExt cx="593280" cy="551160"/>
            </a:xfrm>
          </p:grpSpPr>
          <p:sp>
            <p:nvSpPr>
              <p:cNvPr id="296" name=""/>
              <p:cNvSpPr/>
              <p:nvPr/>
            </p:nvSpPr>
            <p:spPr>
              <a:xfrm rot="1980000">
                <a:off x="5719320" y="4417560"/>
                <a:ext cx="487440" cy="33516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980000">
                <a:off x="5717880" y="441972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5208120" y="4299120"/>
            <a:ext cx="595080" cy="575280"/>
            <a:chOff x="5208120" y="4299120"/>
            <a:chExt cx="595080" cy="575280"/>
          </a:xfrm>
        </p:grpSpPr>
        <p:sp>
          <p:nvSpPr>
            <p:cNvPr id="299" name=""/>
            <p:cNvSpPr/>
            <p:nvPr/>
          </p:nvSpPr>
          <p:spPr>
            <a:xfrm rot="2400000">
              <a:off x="5258880" y="4419720"/>
              <a:ext cx="489240" cy="33660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5208120" y="4299120"/>
              <a:ext cx="595080" cy="575280"/>
              <a:chOff x="5208120" y="4299120"/>
              <a:chExt cx="595080" cy="575280"/>
            </a:xfrm>
          </p:grpSpPr>
          <p:sp>
            <p:nvSpPr>
              <p:cNvPr id="301" name=""/>
              <p:cNvSpPr/>
              <p:nvPr/>
            </p:nvSpPr>
            <p:spPr>
              <a:xfrm rot="2400000">
                <a:off x="5258880" y="4419720"/>
                <a:ext cx="489240" cy="336600"/>
              </a:xfrm>
              <a:prstGeom prst="roundRect">
                <a:avLst>
                  <a:gd name="adj" fmla="val 46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2400000">
                <a:off x="5263560" y="441612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4752720" y="4300200"/>
            <a:ext cx="592560" cy="568800"/>
            <a:chOff x="4752720" y="4300200"/>
            <a:chExt cx="592560" cy="568800"/>
          </a:xfrm>
        </p:grpSpPr>
        <p:sp>
          <p:nvSpPr>
            <p:cNvPr id="304" name=""/>
            <p:cNvSpPr/>
            <p:nvPr/>
          </p:nvSpPr>
          <p:spPr>
            <a:xfrm rot="2280000">
              <a:off x="4804920" y="4414320"/>
              <a:ext cx="487440" cy="33660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4752720" y="4300200"/>
              <a:ext cx="592560" cy="568800"/>
              <a:chOff x="4752720" y="4300200"/>
              <a:chExt cx="592560" cy="568800"/>
            </a:xfrm>
          </p:grpSpPr>
          <p:sp>
            <p:nvSpPr>
              <p:cNvPr id="306" name=""/>
              <p:cNvSpPr/>
              <p:nvPr/>
            </p:nvSpPr>
            <p:spPr>
              <a:xfrm rot="2280000">
                <a:off x="4804920" y="4414320"/>
                <a:ext cx="487440" cy="336600"/>
              </a:xfrm>
              <a:prstGeom prst="roundRect">
                <a:avLst>
                  <a:gd name="adj" fmla="val 46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2280000">
                <a:off x="4804920" y="44164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x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8" name=""/>
          <p:cNvGrpSpPr/>
          <p:nvPr/>
        </p:nvGrpSpPr>
        <p:grpSpPr>
          <a:xfrm>
            <a:off x="4368600" y="4303800"/>
            <a:ext cx="594720" cy="558360"/>
            <a:chOff x="4368600" y="4303800"/>
            <a:chExt cx="594720" cy="558360"/>
          </a:xfrm>
        </p:grpSpPr>
        <p:sp>
          <p:nvSpPr>
            <p:cNvPr id="309" name=""/>
            <p:cNvSpPr/>
            <p:nvPr/>
          </p:nvSpPr>
          <p:spPr>
            <a:xfrm rot="2100000">
              <a:off x="4420800" y="4412880"/>
              <a:ext cx="487440" cy="33660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4368600" y="4303800"/>
              <a:ext cx="594720" cy="558360"/>
              <a:chOff x="4368600" y="4303800"/>
              <a:chExt cx="594720" cy="558360"/>
            </a:xfrm>
          </p:grpSpPr>
          <p:sp>
            <p:nvSpPr>
              <p:cNvPr id="311" name=""/>
              <p:cNvSpPr/>
              <p:nvPr/>
            </p:nvSpPr>
            <p:spPr>
              <a:xfrm rot="2100000">
                <a:off x="4420800" y="4412880"/>
                <a:ext cx="487440" cy="336600"/>
              </a:xfrm>
              <a:prstGeom prst="roundRect">
                <a:avLst>
                  <a:gd name="adj" fmla="val 46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2100000">
                <a:off x="4422600" y="44146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x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3" name=""/>
          <p:cNvGrpSpPr/>
          <p:nvPr/>
        </p:nvGrpSpPr>
        <p:grpSpPr>
          <a:xfrm>
            <a:off x="3850560" y="4269600"/>
            <a:ext cx="669600" cy="638280"/>
            <a:chOff x="3850560" y="4269600"/>
            <a:chExt cx="669600" cy="638280"/>
          </a:xfrm>
        </p:grpSpPr>
        <p:sp>
          <p:nvSpPr>
            <p:cNvPr id="314" name=""/>
            <p:cNvSpPr/>
            <p:nvPr/>
          </p:nvSpPr>
          <p:spPr>
            <a:xfrm rot="2400000">
              <a:off x="3892320" y="4419720"/>
              <a:ext cx="588960" cy="33480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3850560" y="4269600"/>
              <a:ext cx="669600" cy="638280"/>
              <a:chOff x="3850560" y="4269600"/>
              <a:chExt cx="669600" cy="638280"/>
            </a:xfrm>
          </p:grpSpPr>
          <p:sp>
            <p:nvSpPr>
              <p:cNvPr id="316" name=""/>
              <p:cNvSpPr/>
              <p:nvPr/>
            </p:nvSpPr>
            <p:spPr>
              <a:xfrm rot="2400000">
                <a:off x="3892320" y="4419720"/>
                <a:ext cx="588960" cy="33480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2400000">
                <a:off x="3890160" y="4419360"/>
                <a:ext cx="59004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1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6629400" y="4724280"/>
            <a:ext cx="411120" cy="1740600"/>
            <a:chOff x="6629400" y="4724280"/>
            <a:chExt cx="411120" cy="1740600"/>
          </a:xfrm>
        </p:grpSpPr>
        <p:sp>
          <p:nvSpPr>
            <p:cNvPr id="319" name=""/>
            <p:cNvSpPr/>
            <p:nvPr/>
          </p:nvSpPr>
          <p:spPr>
            <a:xfrm>
              <a:off x="6629400" y="4724280"/>
              <a:ext cx="411120" cy="1738440"/>
            </a:xfrm>
            <a:custGeom>
              <a:avLst/>
              <a:gdLst>
                <a:gd name="textAreaLeft" fmla="*/ 360 w 411120"/>
                <a:gd name="textAreaRight" fmla="*/ 410760 w 411120"/>
                <a:gd name="textAreaTop" fmla="*/ 360 h 1738440"/>
                <a:gd name="textAreaBottom" fmla="*/ 1738080 h 1738440"/>
              </a:gdLst>
              <a:ahLst/>
              <a:rect l="textAreaLeft" t="textAreaTop" r="textAreaRight" b="textAreaBottom"/>
              <a:pathLst>
                <a:path w="21600" h="91276">
                  <a:moveTo>
                    <a:pt x="83" y="0"/>
                  </a:moveTo>
                  <a:arcTo wR="83" hR="83" stAng="16200000" swAng="-5400000"/>
                  <a:lnTo>
                    <a:pt x="0" y="91193"/>
                  </a:lnTo>
                  <a:arcTo wR="83" hR="83" stAng="10800000" swAng="-5400000"/>
                  <a:lnTo>
                    <a:pt x="21517" y="91276"/>
                  </a:lnTo>
                  <a:arcTo wR="83" hR="83" stAng="5400000" swAng="-5400000"/>
                  <a:lnTo>
                    <a:pt x="21600" y="83"/>
                  </a:lnTo>
                  <a:arcTo wR="83" hR="83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6629400" y="4724280"/>
              <a:ext cx="411120" cy="1740600"/>
              <a:chOff x="6629400" y="4724280"/>
              <a:chExt cx="411120" cy="1740600"/>
            </a:xfrm>
          </p:grpSpPr>
          <p:sp>
            <p:nvSpPr>
              <p:cNvPr id="321" name=""/>
              <p:cNvSpPr/>
              <p:nvPr/>
            </p:nvSpPr>
            <p:spPr>
              <a:xfrm>
                <a:off x="6629400" y="4724280"/>
                <a:ext cx="411120" cy="1738440"/>
              </a:xfrm>
              <a:custGeom>
                <a:avLst/>
                <a:gdLst>
                  <a:gd name="textAreaLeft" fmla="*/ 360 w 411120"/>
                  <a:gd name="textAreaRight" fmla="*/ 410760 w 411120"/>
                  <a:gd name="textAreaTop" fmla="*/ 360 h 1738440"/>
                  <a:gd name="textAreaBottom" fmla="*/ 1738080 h 1738440"/>
                </a:gdLst>
                <a:ahLst/>
                <a:rect l="textAreaLeft" t="textAreaTop" r="textAreaRight" b="textAreaBottom"/>
                <a:pathLst>
                  <a:path w="21600" h="91276">
                    <a:moveTo>
                      <a:pt x="83" y="0"/>
                    </a:moveTo>
                    <a:arcTo wR="83" hR="83" stAng="16200000" swAng="-5400000"/>
                    <a:lnTo>
                      <a:pt x="0" y="91193"/>
                    </a:lnTo>
                    <a:arcTo wR="83" hR="83" stAng="10800000" swAng="-5400000"/>
                    <a:lnTo>
                      <a:pt x="21517" y="91276"/>
                    </a:lnTo>
                    <a:arcTo wR="83" hR="83" stAng="5400000" swAng="-5400000"/>
                    <a:lnTo>
                      <a:pt x="21600" y="83"/>
                    </a:lnTo>
                    <a:arcTo wR="83" hR="8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629400" y="4724280"/>
                <a:ext cx="410040" cy="1740600"/>
              </a:xfrm>
              <a:custGeom>
                <a:avLst/>
                <a:gdLst>
                  <a:gd name="textAreaLeft" fmla="*/ 360 w 410040"/>
                  <a:gd name="textAreaRight" fmla="*/ 409680 w 410040"/>
                  <a:gd name="textAreaTop" fmla="*/ 360 h 1740600"/>
                  <a:gd name="textAreaBottom" fmla="*/ 1740240 h 1740600"/>
                </a:gdLst>
                <a:ahLst/>
                <a:rect l="textAreaLeft" t="textAreaTop" r="textAreaRight" b="textAreaBottom"/>
                <a:pathLst>
                  <a:path w="21600" h="91629">
                    <a:moveTo>
                      <a:pt x="83" y="0"/>
                    </a:moveTo>
                    <a:arcTo wR="83" hR="83" stAng="16200000" swAng="-5400000"/>
                    <a:lnTo>
                      <a:pt x="0" y="91546"/>
                    </a:lnTo>
                    <a:arcTo wR="83" hR="83" stAng="10800000" swAng="-5400000"/>
                    <a:lnTo>
                      <a:pt x="21517" y="91629"/>
                    </a:lnTo>
                    <a:arcTo wR="83" hR="83" stAng="5400000" swAng="-5400000"/>
                    <a:lnTo>
                      <a:pt x="21600" y="83"/>
                    </a:lnTo>
                    <a:arcTo wR="83" hR="8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dec" pos="163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3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3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3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3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	</a:t>
                </a:r>
                <a:r>
                  <a:rPr b="0" lang="en-GB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1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3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3" name=""/>
          <p:cNvSpPr/>
          <p:nvPr/>
        </p:nvSpPr>
        <p:spPr>
          <a:xfrm>
            <a:off x="6934320" y="4724280"/>
            <a:ext cx="457200" cy="1676520"/>
          </a:xfrm>
          <a:custGeom>
            <a:avLst/>
            <a:gdLst/>
            <a:ahLst/>
            <a:rect l="l" t="t" r="r" b="b"/>
            <a:pathLst>
              <a:path w="1271" h="4658">
                <a:moveTo>
                  <a:pt x="0" y="0"/>
                </a:moveTo>
                <a:cubicBezTo>
                  <a:pt x="317" y="0"/>
                  <a:pt x="635" y="194"/>
                  <a:pt x="635" y="388"/>
                </a:cubicBezTo>
                <a:lnTo>
                  <a:pt x="635" y="1940"/>
                </a:lnTo>
                <a:cubicBezTo>
                  <a:pt x="635" y="2134"/>
                  <a:pt x="953" y="2328"/>
                  <a:pt x="1270" y="2328"/>
                </a:cubicBezTo>
                <a:cubicBezTo>
                  <a:pt x="953" y="2328"/>
                  <a:pt x="635" y="2523"/>
                  <a:pt x="635" y="2717"/>
                </a:cubicBezTo>
                <a:lnTo>
                  <a:pt x="635" y="4269"/>
                </a:lnTo>
                <a:cubicBezTo>
                  <a:pt x="635" y="4463"/>
                  <a:pt x="317" y="4657"/>
                  <a:pt x="0" y="465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7459200" y="5562720"/>
            <a:ext cx="3207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7772400" y="3420720"/>
            <a:ext cx="1440" cy="214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990720" y="5534280"/>
            <a:ext cx="3502080" cy="510120"/>
            <a:chOff x="990720" y="5534280"/>
            <a:chExt cx="3502080" cy="510120"/>
          </a:xfrm>
        </p:grpSpPr>
        <p:sp>
          <p:nvSpPr>
            <p:cNvPr id="327" name=""/>
            <p:cNvSpPr/>
            <p:nvPr/>
          </p:nvSpPr>
          <p:spPr>
            <a:xfrm>
              <a:off x="990720" y="5611680"/>
              <a:ext cx="3502080" cy="357480"/>
            </a:xfrm>
            <a:prstGeom prst="roundRect">
              <a:avLst>
                <a:gd name="adj" fmla="val 444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990720" y="5534280"/>
              <a:ext cx="3500280" cy="510120"/>
              <a:chOff x="990720" y="5534280"/>
              <a:chExt cx="3500280" cy="510120"/>
            </a:xfrm>
          </p:grpSpPr>
          <p:sp>
            <p:nvSpPr>
              <p:cNvPr id="329" name=""/>
              <p:cNvSpPr/>
              <p:nvPr/>
            </p:nvSpPr>
            <p:spPr>
              <a:xfrm>
                <a:off x="990720" y="5610240"/>
                <a:ext cx="3500280" cy="357120"/>
              </a:xfrm>
              <a:prstGeom prst="roundRect">
                <a:avLst>
                  <a:gd name="adj" fmla="val 44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990720" y="5534280"/>
                <a:ext cx="3500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1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 19 in decim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990960" cy="393372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Symbols and Tex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504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ach letter and symbol in a text document must be translated into a binary number for storage in the comput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tandardized means of storing these code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SCII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American Standard Code for Information Interchang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BCDIC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Extended Binary Coded Decimal Interchange Cod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NICODE (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tended ASCII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ictures must be translated into a binary format for storage in the comput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picture is broken down into small element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se elements are called Pixels (Picture Elements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igitizer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device that converts a picture into a binary format for storage in the computer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amples of digitizers: scanner, digital camer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gitized picture of a tig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943600" cy="3973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lack and whit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ixel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e either 0 or 1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3733920" cy="3035160"/>
          </a:xfrm>
          <a:prstGeom prst="rect">
            <a:avLst/>
          </a:prstGeom>
          <a:ln w="0">
            <a:noFill/>
          </a:ln>
        </p:spPr>
      </p:pic>
      <p:grpSp>
        <p:nvGrpSpPr>
          <p:cNvPr id="342" name=""/>
          <p:cNvGrpSpPr/>
          <p:nvPr/>
        </p:nvGrpSpPr>
        <p:grpSpPr>
          <a:xfrm>
            <a:off x="5714640" y="2133720"/>
            <a:ext cx="2845440" cy="4209480"/>
            <a:chOff x="5714640" y="2133720"/>
            <a:chExt cx="2845440" cy="4209480"/>
          </a:xfrm>
        </p:grpSpPr>
        <p:sp>
          <p:nvSpPr>
            <p:cNvPr id="343" name=""/>
            <p:cNvSpPr/>
            <p:nvPr/>
          </p:nvSpPr>
          <p:spPr>
            <a:xfrm>
              <a:off x="5715000" y="2133720"/>
              <a:ext cx="2811600" cy="4186080"/>
            </a:xfrm>
            <a:custGeom>
              <a:avLst/>
              <a:gdLst>
                <a:gd name="textAreaLeft" fmla="*/ 360 w 2811600"/>
                <a:gd name="textAreaRight" fmla="*/ 2811240 w 2811600"/>
                <a:gd name="textAreaTop" fmla="*/ 360 h 4186080"/>
                <a:gd name="textAreaBottom" fmla="*/ 4185720 h 4186080"/>
              </a:gdLst>
              <a:ahLst/>
              <a:rect l="textAreaLeft" t="textAreaTop" r="textAreaRight" b="textAreaBottom"/>
              <a:pathLst>
                <a:path w="21600" h="32158">
                  <a:moveTo>
                    <a:pt x="12" y="0"/>
                  </a:moveTo>
                  <a:arcTo wR="12" hR="12" stAng="16200000" swAng="-5400000"/>
                  <a:lnTo>
                    <a:pt x="0" y="32146"/>
                  </a:lnTo>
                  <a:arcTo wR="12" hR="12" stAng="10800000" swAng="-5400000"/>
                  <a:lnTo>
                    <a:pt x="21588" y="32158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5714640" y="2133720"/>
              <a:ext cx="2845440" cy="4209480"/>
              <a:chOff x="5714640" y="2133720"/>
              <a:chExt cx="2845440" cy="4209480"/>
            </a:xfrm>
          </p:grpSpPr>
          <p:sp>
            <p:nvSpPr>
              <p:cNvPr id="345" name=""/>
              <p:cNvSpPr/>
              <p:nvPr/>
            </p:nvSpPr>
            <p:spPr>
              <a:xfrm>
                <a:off x="5715000" y="2133720"/>
                <a:ext cx="2811600" cy="4186080"/>
              </a:xfrm>
              <a:custGeom>
                <a:avLst/>
                <a:gdLst>
                  <a:gd name="textAreaLeft" fmla="*/ 360 w 2811600"/>
                  <a:gd name="textAreaRight" fmla="*/ 2811240 w 2811600"/>
                  <a:gd name="textAreaTop" fmla="*/ 360 h 4186080"/>
                  <a:gd name="textAreaBottom" fmla="*/ 4185720 h 4186080"/>
                </a:gdLst>
                <a:ahLst/>
                <a:rect l="textAreaLeft" t="textAreaTop" r="textAreaRight" b="textAreaBottom"/>
                <a:pathLst>
                  <a:path w="21600" h="32158">
                    <a:moveTo>
                      <a:pt x="12" y="0"/>
                    </a:moveTo>
                    <a:arcTo wR="12" hR="12" stAng="16200000" swAng="-5400000"/>
                    <a:lnTo>
                      <a:pt x="0" y="32146"/>
                    </a:lnTo>
                    <a:arcTo wR="12" hR="12" stAng="10800000" swAng="-5400000"/>
                    <a:lnTo>
                      <a:pt x="21588" y="32158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714640" y="2133720"/>
                <a:ext cx="2845440" cy="4209480"/>
              </a:xfrm>
              <a:custGeom>
                <a:avLst/>
                <a:gdLst>
                  <a:gd name="textAreaLeft" fmla="*/ 360 w 2845440"/>
                  <a:gd name="textAreaRight" fmla="*/ 2845080 w 2845440"/>
                  <a:gd name="textAreaTop" fmla="*/ 360 h 4209480"/>
                  <a:gd name="textAreaBottom" fmla="*/ 4209120 h 4209480"/>
                </a:gdLst>
                <a:ahLst/>
                <a:rect l="textAreaLeft" t="textAreaTop" r="textAreaRight" b="textAreaBottom"/>
                <a:pathLst>
                  <a:path w="21600" h="31953">
                    <a:moveTo>
                      <a:pt x="12" y="0"/>
                    </a:moveTo>
                    <a:arcTo wR="12" hR="12" stAng="16200000" swAng="-5400000"/>
                    <a:lnTo>
                      <a:pt x="0" y="31941"/>
                    </a:lnTo>
                    <a:arcTo wR="12" hR="12" stAng="10800000" swAng="-5400000"/>
                    <a:lnTo>
                      <a:pt x="21588" y="31953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00000000000000000000000001010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0000000000010000000000000000000000000010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0000000001000000000000000000000000000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000000000100000000000000000000000000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000000000010110000000000000000000000010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10000000000011110000000000000000000000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1001000000000111110101010111000000000000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1111011101111111010000000010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00100000110111110111111011000000000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000000111110111101011101000000000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100011101010101011010000000000010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01000000111010101011010101000000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100000010101001000000000000000000011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100101010000000000000000000000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011001010000000000000000000010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100101010101001001010100000000000000010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0001111110100101101110101011000000010110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11110101111111111101011011010111111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101111101111111111111111111011111101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1011111111111111111111111111111111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0001110111111111111111111111111111111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0100111111111111111111111111111111111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10101111111111111111110111111001111010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11101111111111111111111111101101010111010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111111111111111110101101111011110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0111011010011111101010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1111111100101111011010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0101111101110111010011111101010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1111111110101111111011111101110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1111011010101100001011111111111111010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ray-Scal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ach pixel contains a value representing some shade of gray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more shades of gray possible, the more memory will be neede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4 shades of gray needs 2 bits per pixel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00, 01, 10, 11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8 shades of gray needs 3 bits per pixel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000, 001, 010, 011, 100, 101, 110, 111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64 shades of gray needs 6 bits per pixel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000000, 000001, … 111110, 111111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238120" cy="48769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7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essage transmission from the Arecibo radio telescope in Puerto Rico to other star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-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aeg, koht, arvestus, praktik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kku ca 16 loengu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aktikumid on iseõppelised: juhendamist neis ei toim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 lõpeb kirjaliku eksamiga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3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914400" y="299880"/>
            <a:ext cx="7767720" cy="309600"/>
            <a:chOff x="914400" y="299880"/>
            <a:chExt cx="7767720" cy="309600"/>
          </a:xfrm>
        </p:grpSpPr>
        <p:sp>
          <p:nvSpPr>
            <p:cNvPr id="73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868032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torage of Binary Informati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apacity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961560" y="2362320"/>
            <a:ext cx="7000200" cy="3386160"/>
            <a:chOff x="961560" y="2362320"/>
            <a:chExt cx="7000200" cy="3386160"/>
          </a:xfrm>
        </p:grpSpPr>
        <p:sp>
          <p:nvSpPr>
            <p:cNvPr id="355" name=""/>
            <p:cNvSpPr/>
            <p:nvPr/>
          </p:nvSpPr>
          <p:spPr>
            <a:xfrm>
              <a:off x="990720" y="2362320"/>
              <a:ext cx="6931080" cy="3378240"/>
            </a:xfrm>
            <a:prstGeom prst="roundRect">
              <a:avLst>
                <a:gd name="adj" fmla="val 46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961560" y="2362320"/>
              <a:ext cx="7000200" cy="3386160"/>
              <a:chOff x="961560" y="2362320"/>
              <a:chExt cx="7000200" cy="3386160"/>
            </a:xfrm>
          </p:grpSpPr>
          <p:sp>
            <p:nvSpPr>
              <p:cNvPr id="357" name=""/>
              <p:cNvSpPr/>
              <p:nvPr/>
            </p:nvSpPr>
            <p:spPr>
              <a:xfrm>
                <a:off x="990720" y="2362320"/>
                <a:ext cx="6929280" cy="3376440"/>
              </a:xfrm>
              <a:prstGeom prst="roundRect">
                <a:avLst>
                  <a:gd name="adj" fmla="val 46"/>
                </a:avLst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8" name=""/>
              <p:cNvGrpSpPr/>
              <p:nvPr/>
            </p:nvGrpSpPr>
            <p:grpSpPr>
              <a:xfrm>
                <a:off x="961560" y="2362320"/>
                <a:ext cx="7000200" cy="3386160"/>
                <a:chOff x="961560" y="2362320"/>
                <a:chExt cx="7000200" cy="338616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990720" y="2362320"/>
                  <a:ext cx="6929280" cy="3376440"/>
                </a:xfrm>
                <a:prstGeom prst="roundRect">
                  <a:avLst>
                    <a:gd name="adj" fmla="val 46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961560" y="2362320"/>
                  <a:ext cx="7000200" cy="3386160"/>
                </a:xfrm>
                <a:prstGeom prst="roundRect">
                  <a:avLst>
                    <a:gd name="adj" fmla="val 46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41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80560"/>
                      <a:tab algn="l" pos="10782360"/>
                    </a:tabLst>
                  </a:pP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Unit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Description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Approximate Siz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1600200"/>
                      <a:tab algn="l" pos="41641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t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nary digi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41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nibbl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4 bi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41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8 bit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charact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41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kilo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24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/2 page, double spac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41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meg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48,576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00,000 pag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41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million byt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41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gig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73,741,824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 million pag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41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llion byt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41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ter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trillion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 billion pag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tructions as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ac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clarative: statement of being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parts knowledg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struction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perative: demands action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ntrols information or activity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tructions as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struction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ust be stored within the computer before us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ust be stored in binary form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set of binary instructions is called a program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Stored-program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collection of instructions for the computer to perform one by on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chine Languag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language of the computing machin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l instructions must be in the form of binary numbers (binary code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dur="indefinite" fill="hold">
                      <p:stCondLst>
                        <p:cond delay="indefinite"/>
                      </p:stCondLst>
                      <p:childTnLst>
                        <p:par>
                          <p:cTn id="2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dur="indefinite" fill="hold">
                      <p:stCondLst>
                        <p:cond delay="indefinite"/>
                      </p:stCondLst>
                      <p:childTnLst>
                        <p:par>
                          <p:cTn id="2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Stored-program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tored-program Computer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so known as the von Neumann-type computer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as memory - a place to keep both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structions (ie program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d the needed information (ie data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eded for computation by the computer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analoog vs diskree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0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idevad ehk analoog-asj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aga arvud, murrud jm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igonomeetri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emaatiline analüü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assikaline füüsik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õtmised, tugevus jms klassikaline insenerivärk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atkevad ehk diskreetsed asj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äisarv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ulkade struktuur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kst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914400" y="299880"/>
            <a:ext cx="7767720" cy="309600"/>
            <a:chOff x="914400" y="299880"/>
            <a:chExt cx="7767720" cy="309600"/>
          </a:xfrm>
        </p:grpSpPr>
        <p:sp>
          <p:nvSpPr>
            <p:cNvPr id="372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868032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8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llega ja milleks tegeleda? Kaks keerukalt seotud poolus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rvutiteadus: teha võimalikult keerulisi asju!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mmertsrakendused: kliendile meelepäraseid asj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914400" y="299880"/>
            <a:ext cx="7767720" cy="309600"/>
            <a:chOff x="914400" y="299880"/>
            <a:chExt cx="7767720" cy="309600"/>
          </a:xfrm>
        </p:grpSpPr>
        <p:sp>
          <p:nvSpPr>
            <p:cNvPr id="377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868032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3060720" y="2519280"/>
            <a:ext cx="1440" cy="126072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55840" y="2879640"/>
            <a:ext cx="5024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eneriasjandus: teha kõike lihtsamal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arvutitea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82520"/>
            <a:ext cx="7848720" cy="757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temaatiline arvutitead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gebra erihar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atavu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eeruku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aktilisem arvutitead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goritmik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rifitseerimine, järelduste automatiseeri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Õppi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eeled ja kompilaator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rüpto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eel praktilisem arvutitead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dmebaaside teooria ja tehnoloogi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ailisüsteemide 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graafika 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rgusüsteemide 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914400" y="299880"/>
            <a:ext cx="7767720" cy="309600"/>
            <a:chOff x="914400" y="299880"/>
            <a:chExt cx="7767720" cy="309600"/>
          </a:xfrm>
        </p:grpSpPr>
        <p:sp>
          <p:nvSpPr>
            <p:cNvPr id="384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868032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kommertsrakend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-720720"/>
            <a:ext cx="7848720" cy="852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aiatarberakendus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d, draiverid jm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kstiredaktorid, brauserid, epost jne 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ised võrgurakendused: google, youtube, skype, .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äng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sugu utiliid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eerimisvahend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o, raamatupidamissüsteemide jms toorik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rirakendus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ngarakendused, telekomirakendused jne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aalsed lao- ja tellimissüsteem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rma andmebaas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rma süsteemide sidu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14400" y="299880"/>
            <a:ext cx="7767720" cy="309600"/>
            <a:chOff x="914400" y="299880"/>
            <a:chExt cx="7767720" cy="309600"/>
          </a:xfrm>
        </p:grpSpPr>
        <p:sp>
          <p:nvSpPr>
            <p:cNvPr id="389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868032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esti ülikoolikoolkonn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9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jaloo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TÜ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jandusteaduskon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ktroonik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überneetika instituu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rt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atistik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usmeetodite teoreetik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uud matemaatik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T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TÜ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rtu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ttevõtte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914400" y="299880"/>
            <a:ext cx="7767720" cy="309600"/>
            <a:chOff x="914400" y="299880"/>
            <a:chExt cx="7767720" cy="309600"/>
          </a:xfrm>
        </p:grpSpPr>
        <p:sp>
          <p:nvSpPr>
            <p:cNvPr id="394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868032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materjalid ja töö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9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l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I OL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ühtegi konkreetset õpiku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ur osa materjale ilmub loengute eel või järel (reeglina samal päeval)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õrku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Alati on olemas loengu üldplaan ja põhipunktid, kuid palju seletavaid detaile on võrgus puudu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Bitstream Vera Sans"/>
              </a:rPr>
              <a:t>http://www.lambda.ee/index/itv0010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materjale on nii eesti- kui ingliskeelsei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saks otsestele loengumaterjalidele on võrgus antud ka muud loengu teema omandamiseks vajalikud materjalid, enamasti ingliskeelse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etavaid detaile saab kuulda ainult loengus käies. Iseõppimine on teoreetiliselt võimalik, kuid on raske ja ajamahukas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 praktiliste töödena (arvutil) kasutame peamiselt David Ecki praktikumide osi ja tarkvar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 muud kohustuslikud tööd on lihtsalt lugemisülesande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914400" y="299880"/>
            <a:ext cx="7767720" cy="309600"/>
            <a:chOff x="914400" y="299880"/>
            <a:chExt cx="7767720" cy="309600"/>
          </a:xfrm>
        </p:grpSpPr>
        <p:sp>
          <p:nvSpPr>
            <p:cNvPr id="78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868032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sialgu soovitav kirjan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25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irjand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ul Grahami essee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w Hacker’s Dictionary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: mõtlemisest tõestamisen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Cathedral and the Bazaar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nu manifest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oovitatavad igapäevaselt loetavad lingi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www.news.com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www.slashdot.org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www.dzone.com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www.digg.com või www.reddit.com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 vaata kursuse saidilt juurde!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914400" y="299880"/>
            <a:ext cx="7767720" cy="309600"/>
            <a:chOff x="914400" y="299880"/>
            <a:chExt cx="7767720" cy="309600"/>
          </a:xfrm>
        </p:grpSpPr>
        <p:sp>
          <p:nvSpPr>
            <p:cNvPr id="83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868032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</a:t>
            </a:r>
            <a:r>
              <a:rPr b="1" i="1" lang="en-GB" sz="2400" spc="-1" strike="noStrike">
                <a:solidFill>
                  <a:srgbClr val="000099"/>
                </a:solidFill>
                <a:latin typeface="Bitstream Vera Sans"/>
              </a:rPr>
              <a:t>esialgne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loengukav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1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Vaata: www.lambda.ee/index/itv0010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914400" y="299880"/>
            <a:ext cx="7767720" cy="309600"/>
            <a:chOff x="914400" y="299880"/>
            <a:chExt cx="7767720" cy="309600"/>
          </a:xfrm>
        </p:grpSpPr>
        <p:sp>
          <p:nvSpPr>
            <p:cNvPr id="88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868032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iistvara ja tarkvar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Riistvar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üüsilised, käegakatsutavad osa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d: klaviatuur, monitor, integraalskeemid jm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rkvar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 ja andme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 on jada instruktsioo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914400" y="299880"/>
            <a:ext cx="7767720" cy="309600"/>
            <a:chOff x="914400" y="299880"/>
            <a:chExt cx="7767720" cy="309600"/>
          </a:xfrm>
        </p:grpSpPr>
        <p:sp>
          <p:nvSpPr>
            <p:cNvPr id="93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868032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1143000" cy="954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391520" y="4191120"/>
            <a:ext cx="1357200" cy="1600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 </dc:title>
</cp:coreProperties>
</file>